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AF709-323D-49A1-9E1E-48B345C36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5A2B4-4EA3-40BB-9336-CA1E8785B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DC07F-EF20-4B85-B347-1B8E59DC3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2891C-2CC3-4931-9D6B-6805CCC84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E9044-F753-4885-A0CC-E90DA2346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FA406-3BB7-4F85-BB22-AD410C2EE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AADAD-7E8D-4458-8273-25E72D973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1BAEC-6B74-4FA6-A425-B914F5FCE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833AC-B9DC-43D7-B869-DE04B7C03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7734A-06AC-481A-A50E-4227ED957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30A24-4EA9-4A97-9D30-2606F7BD6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F7158-7FB9-4C1E-B1CF-DA8F2C78C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70D04-CA82-4567-B8B8-8DE900CC88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38080" y="2514600"/>
            <a:ext cx="762012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762120"/>
            <a:ext cx="7620120" cy="18288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066680" y="838080"/>
            <a:ext cx="716292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Playbill"/>
              </a:rPr>
              <a:t>WinOdEan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Playbill"/>
              <a:ea typeface="Playbill"/>
            </a:endParaRPr>
          </a:p>
        </p:txBody>
      </p:sp>
      <p:sp>
        <p:nvSpPr>
          <p:cNvPr id="46" name=""/>
          <p:cNvSpPr/>
          <p:nvPr/>
        </p:nvSpPr>
        <p:spPr>
          <a:xfrm>
            <a:off x="990720" y="259092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Windo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90720" y="3124080"/>
            <a:ext cx="739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 Extra Bold"/>
              </a:rPr>
              <a:t>Optimiz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90720" y="373392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Data En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38080" y="4343400"/>
            <a:ext cx="7620120" cy="182880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4724280"/>
            <a:ext cx="7543800" cy="9234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etter Gothic"/>
              </a:rPr>
              <a:t>Affinity 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e-mail: affinity@vsnl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24T08:44:49Z</dcterms:created>
  <dc:creator>OPEY A.</dc:creator>
  <dc:description/>
  <dc:language>en-US</dc:language>
  <cp:lastModifiedBy>OPEY A.</cp:lastModifiedBy>
  <dcterms:modified xsi:type="dcterms:W3CDTF">1999-12-27T13:44:17Z</dcterms:modified>
  <cp:revision>12</cp:revision>
  <dc:subject/>
  <dc:title>No Slide Title</dc:title>
</cp:coreProperties>
</file>